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9CE-18DF-4933-A9A3-E9AFAA19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48C-7054-4FCA-A0EF-20E66F7E2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BB6F-918C-469D-AE46-41C80EAD5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9D1B-852E-475B-BA4A-8AEFFD6A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40CC-4302-4789-BBD1-E295FDFD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1EB3-203A-4026-92E3-D4CAD27A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75ED-BD81-4F43-B3CF-6CFD4704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0C55-58CC-4033-97D2-6EBC4EC8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2EB0-82D4-4E75-97DB-BAE318EB0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99352-A207-4B2C-B13B-36D9A7E13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02E-301A-44C0-A5A8-90EA6F4E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A3C2-241F-4A88-80F9-9ADABE820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746A-9746-4B49-B04B-1B4B218E8C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Health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ies of Singapore and Brit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ouraging Self-Re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amount of CPF contributions channeled to Medi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unt used to pay for hospital bills, medical trea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 the years, people have accepted Medisave as a means to pay medical b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Medisave, people share the costs of healthcare with the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need not raise taxes to pay for rising healthcare co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couraging Self-Reli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sh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ith long-term illnesses not able to pay their medical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healthcare insuranc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pay for scheme using Medis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make claims from Medi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 the years, use of Medishield has expa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Healthcare Affor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vernment subsid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subsidies given to govt hospitals, polyclinics and some nursing ho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basic healthcare available to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rates of subsidies to different classes of wards, e.g. Class C wards receive th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Healthcare Affor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f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needy S’poreans still cannot afford their medical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difund set up to help those not able to p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ed with a fund of $200 mill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est earned given to public hospitals to provide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s need to apply for the fund at the hospit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Healthcare Affor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ucturing of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ucturing means that hospitals have more freedom to reorganise to meet people’s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t also able to reduce hospital subsid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many felt that restructuring meant higher hospital b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eeping Healthcare Afford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ns-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concern is subsidies provided should benefit patients who need them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more fairly distributed if those who cannot afford get the 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well-to-do would benefit 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ing of patients ability to pay is means-te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moting a Healthy Life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way of coping with rising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person is in good health, he will not need medical 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ols and workplaces have programmes to emphasise good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ing with Organis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 also provides healthcare services for the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possible for govt to run all healthc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ary welfare organisations and some private hospitals given grants to run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is given by govt to organisations to provide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se services cater to needs of the poor or a particular illn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3 Have Singapore’s healthcare policies met the needs of the peopl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ite various schemes, some people still cannot afford healthcare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lderly is one such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other group is those who are unable to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s the health of the people of Singapore improved over the yea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1 Challenges facing gover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care is a public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s developed countries have no basic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ed countries provide better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ey from healthcare come from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1 Challenges facing govern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1557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quality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ing expenditure on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284280"/>
            <a:ext cx="8229600" cy="28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ople are treated better in hospit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medicine leads to higher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2 Paying for Healthc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: Self (Sav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vidual: Personal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r: Employer-paid insur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er: Government tax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Healthcare in Singapo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1 How was healthcare managed in the 1960s and 197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2 How has the approach to manage healthcare changed since the 1980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3 Have Singapore’s healthcare policies met the needs of the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1 How was healthcare managed in the 1960s and 1970s?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care as part of public housing 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atters clea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spitals, clinics and outpatient dispensaries bui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cc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l Officers and nurses sent to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1 How was healthcare managed in the 1960s and 1970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7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ter standard of l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’poreans wanted better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lyclinics replaced dispens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cilities in hospitals impro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nditure on healthcare comes from the govt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2 How has the approach to manage healthcare changed since the 1980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couraging Self-Re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s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ing Healthcare afford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ment subsi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ucturing of Hospit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s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moting Healthy Lifesty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ing with Organis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2 How has the approach to manage healthcare changed since the 1980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Health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to Healthc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reli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good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ver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ep healthcare afford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motes healthy lifesty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uppor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02:44:03Z</dcterms:created>
  <dc:creator>moe</dc:creator>
  <dc:description/>
  <dc:language>en-US</dc:language>
  <cp:lastModifiedBy>moe</cp:lastModifiedBy>
  <dcterms:modified xsi:type="dcterms:W3CDTF">2009-08-11T03:13:22Z</dcterms:modified>
  <cp:revision>5</cp:revision>
  <dc:subject/>
  <dc:title>Managing Healthcare</dc:title>
</cp:coreProperties>
</file>